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2.pct" ContentType="image/x-pict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7.pct" ContentType="image/x-pict"/>
  <Override PartName="/ppt/media/image20.jpeg" ContentType="image/jpeg"/>
  <Override PartName="/ppt/media/image1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8.jpeg" ContentType="image/jpeg"/>
  <Override PartName="/ppt/media/image1.pct" ContentType="image/x-pict"/>
  <Override PartName="/ppt/media/image19.jpeg" ContentType="image/jpeg"/>
  <Override PartName="/ppt/media/image3.jpeg" ContentType="image/jpeg"/>
  <Override PartName="/ppt/media/image24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464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-469800">
              <a:spcBef>
                <a:spcPts val="3101"/>
              </a:spcBef>
              <a:buClr>
                <a:srgbClr val="ffffff"/>
              </a:buClr>
              <a:buSzPct val="288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marL="98100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marL="132408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marL="166680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marL="202248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marL="2022480" indent="-371520">
              <a:spcBef>
                <a:spcPts val="55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marL="2022480" indent="-371520">
              <a:spcBef>
                <a:spcPts val="55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512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75348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03104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308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596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596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596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512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75348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03104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308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596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596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596960" indent="-30060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257800" y="203040"/>
            <a:ext cx="47750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257800" y="2158920"/>
            <a:ext cx="4788000" cy="528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652680" indent="-455760">
              <a:spcBef>
                <a:spcPts val="3101"/>
              </a:spcBef>
              <a:buClr>
                <a:srgbClr val="ffffff"/>
              </a:buClr>
              <a:buSzPct val="288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marL="902160" indent="-36036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marL="1234800" indent="-36036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marL="1567440" indent="-36036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marL="1912320" indent="-36036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marL="1912320" indent="-36036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marL="1912320" indent="-36036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464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75960" y="2158920"/>
            <a:ext cx="4927320" cy="528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3200" indent="-470160">
              <a:spcBef>
                <a:spcPts val="3101"/>
              </a:spcBef>
              <a:buClr>
                <a:srgbClr val="ffffff"/>
              </a:buClr>
              <a:buSzPct val="288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marL="93024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marL="127332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marL="161604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marL="1971720" indent="-371520">
              <a:spcBef>
                <a:spcPts val="31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marL="1971720" indent="-37152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marL="1971720" indent="-371520">
              <a:spcBef>
                <a:spcPts val="31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75960" y="203040"/>
            <a:ext cx="49273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"/>
          </a:bodyPr>
          <a:p>
            <a:pPr marL="31204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marL="3120480" indent="-28944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marL="3120480" indent="-28944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marL="3120480" indent="-28944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marL="3120480" indent="-28944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marL="3120480" indent="-28944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marL="3120480" indent="-28944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87240" indent="-433080">
              <a:spcBef>
                <a:spcPts val="20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1042920" indent="-433440">
              <a:spcBef>
                <a:spcPts val="20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386000" indent="-433440">
              <a:spcBef>
                <a:spcPts val="20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728720" indent="-433440">
              <a:spcBef>
                <a:spcPts val="20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2084400" indent="-433440">
              <a:spcBef>
                <a:spcPts val="20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2084400" indent="-43344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2084400" indent="-433440">
              <a:spcBef>
                <a:spcPts val="75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566280" indent="-385560">
              <a:spcBef>
                <a:spcPts val="3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82720" indent="-385560">
              <a:spcBef>
                <a:spcPts val="3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88360" indent="-385560">
              <a:spcBef>
                <a:spcPts val="3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93280" indent="-385560">
              <a:spcBef>
                <a:spcPts val="3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809720" indent="-385560">
              <a:spcBef>
                <a:spcPts val="3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809720" indent="-385560">
              <a:spcBef>
                <a:spcPts val="3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809720" indent="-385560">
              <a:spcBef>
                <a:spcPts val="39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464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0200" y="202680"/>
            <a:ext cx="8991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7600" y="1714320"/>
            <a:ext cx="901692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3200" indent="-470160">
              <a:spcBef>
                <a:spcPts val="1001"/>
              </a:spcBef>
              <a:buClr>
                <a:srgbClr val="ffffff"/>
              </a:buClr>
              <a:buSzPct val="21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992160" indent="-433440">
              <a:spcBef>
                <a:spcPts val="10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1335240" indent="-433440">
              <a:spcBef>
                <a:spcPts val="10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marL="1677960" indent="-433440">
              <a:spcBef>
                <a:spcPts val="10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marL="2033640" indent="-433440">
              <a:spcBef>
                <a:spcPts val="1001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marL="2033640" indent="-433440">
              <a:spcBef>
                <a:spcPts val="10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marL="2033640" indent="-433440">
              <a:spcBef>
                <a:spcPts val="10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88840" y="2120760"/>
            <a:ext cx="836316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77840" y="-901800"/>
            <a:ext cx="928368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10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1224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iPod Shuffle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-1015920" y="2095560"/>
            <a:ext cx="121917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1015920" y="0"/>
            <a:ext cx="121917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444600" y="-901800"/>
            <a:ext cx="928368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9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-2592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A Faster Network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-50760" y="3022560"/>
            <a:ext cx="1027260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ToySigh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8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-101520" y="1974960"/>
            <a:ext cx="10582200" cy="6603840"/>
          </a:xfrm>
          <a:prstGeom prst="rect">
            <a:avLst/>
          </a:prstGeom>
          <a:ln w="0">
            <a:noFill/>
          </a:ln>
        </p:spPr>
      </p:pic>
      <p:pic>
        <p:nvPicPr>
          <p:cNvPr id="557" name="Mac-Centric Gifts 2006.ppt_media/toysightr-refnp.mov" descr=""/>
          <p:cNvPicPr/>
          <p:nvPr/>
        </p:nvPicPr>
        <p:blipFill>
          <a:blip r:embed="rId2"/>
          <a:stretch/>
        </p:blipFill>
        <p:spPr>
          <a:xfrm>
            <a:off x="-38160" y="0"/>
            <a:ext cx="10261800" cy="76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External Hard Drive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7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-216000" y="0"/>
            <a:ext cx="10464840" cy="7950240"/>
            <a:chOff x="-216000" y="0"/>
            <a:chExt cx="10464840" cy="7950240"/>
          </a:xfrm>
        </p:grpSpPr>
        <p:sp>
          <p:nvSpPr>
            <p:cNvPr id="561" name=""/>
            <p:cNvSpPr/>
            <p:nvPr/>
          </p:nvSpPr>
          <p:spPr>
            <a:xfrm>
              <a:off x="-216000" y="2413080"/>
              <a:ext cx="10464840" cy="553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562" name="" descr=""/>
            <p:cNvPicPr/>
            <p:nvPr/>
          </p:nvPicPr>
          <p:blipFill>
            <a:blip r:embed="rId1"/>
            <a:stretch/>
          </p:blipFill>
          <p:spPr>
            <a:xfrm>
              <a:off x="3289320" y="0"/>
              <a:ext cx="4356000" cy="5391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6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iPod Accessories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76240" y="-12600"/>
            <a:ext cx="6593040" cy="77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-152280" y="-165240"/>
            <a:ext cx="10464840" cy="83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5232240" y="2120760"/>
            <a:ext cx="5080320" cy="381024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749160" y="3429000"/>
            <a:ext cx="4330800" cy="43308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1752480" y="431640"/>
            <a:ext cx="3254400" cy="25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5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Better Mouse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-152280" y="2324160"/>
            <a:ext cx="104648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4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Mac Books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990720" y="2816280"/>
            <a:ext cx="3708360" cy="486864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5486400" y="2838600"/>
            <a:ext cx="382284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3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USB Toys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-50760" y="2195640"/>
            <a:ext cx="6273720" cy="54115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5854680" y="2190600"/>
            <a:ext cx="4318200" cy="57214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2320" y="2189160"/>
            <a:ext cx="4991040" cy="58150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991040" y="2184480"/>
            <a:ext cx="516888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Mac Gifts Under $100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765440" y="-12600"/>
            <a:ext cx="6692760" cy="764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2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More Memory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-152280" y="812880"/>
            <a:ext cx="10464840" cy="7391160"/>
            <a:chOff x="-152280" y="812880"/>
            <a:chExt cx="10464840" cy="7391160"/>
          </a:xfrm>
        </p:grpSpPr>
        <p:sp>
          <p:nvSpPr>
            <p:cNvPr id="588" name=""/>
            <p:cNvSpPr/>
            <p:nvPr/>
          </p:nvSpPr>
          <p:spPr>
            <a:xfrm>
              <a:off x="-152280" y="2666880"/>
              <a:ext cx="10464840" cy="553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2679840" y="812880"/>
              <a:ext cx="5359320" cy="3492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1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What could it be?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431640" y="-901800"/>
            <a:ext cx="9284040" cy="9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309240"/>
                <a:tab algn="l" pos="10058400"/>
              </a:tabLst>
            </a:pPr>
            <a:r>
              <a:rPr b="0" lang="en-US" sz="63800" spc="-1" strike="noStrike">
                <a:solidFill>
                  <a:srgbClr val="ffffff"/>
                </a:solidFill>
                <a:latin typeface="Gill Sans"/>
                <a:ea typeface="Gill Sans"/>
              </a:rPr>
              <a:t>1</a:t>
            </a:r>
            <a:endParaRPr b="0" lang="en-US" sz="6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Washington Apple Pi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Membership!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d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888840" y="2120760"/>
            <a:ext cx="8363160" cy="33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Bonus Items!!!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2235240" y="3149640"/>
            <a:ext cx="5689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  <a:ea typeface="Gill Sans"/>
              </a:rPr>
              <a:t>“</a:t>
            </a:r>
            <a:r>
              <a:rPr b="0" lang="en-US" sz="4600" spc="-1" strike="noStrike">
                <a:solidFill>
                  <a:srgbClr val="ffffff"/>
                </a:solidFill>
                <a:latin typeface="Gill Sans"/>
                <a:ea typeface="Gill Sans"/>
              </a:rPr>
              <a:t>Money is No Object”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217600" y="4317840"/>
            <a:ext cx="5689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  <a:ea typeface="Gill Sans"/>
              </a:rPr>
              <a:t>“</a:t>
            </a:r>
            <a:r>
              <a:rPr b="0" lang="en-US" sz="4600" spc="-1" strike="noStrike">
                <a:solidFill>
                  <a:srgbClr val="ffffff"/>
                </a:solidFill>
                <a:latin typeface="Gill Sans"/>
                <a:ea typeface="Gill Sans"/>
              </a:rPr>
              <a:t>What Not to Get”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Money is No Objec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-216000" y="2260440"/>
            <a:ext cx="10464840" cy="55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An HD Video Camera and...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2600" y="3632040"/>
            <a:ext cx="5451480" cy="4089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5888160" y="3073320"/>
            <a:ext cx="3941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-152280" y="-368280"/>
            <a:ext cx="10464840" cy="835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5067360" y="8400960"/>
            <a:ext cx="8712000" cy="69246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-790560" y="-139680"/>
            <a:ext cx="11161800" cy="77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What Not to Get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Microsoft Zune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5499000" y="3390840"/>
            <a:ext cx="4746600" cy="24386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635360" y="5715000"/>
            <a:ext cx="5588280" cy="19558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-88920" y="2641680"/>
            <a:ext cx="558792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1414"/>
            </a:gs>
            <a:gs pos="100000">
              <a:srgbClr val="6c1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Gill Sans"/>
              </a:rPr>
              <a:t>Mac Gifts Under $100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